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ja-JP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ja-JP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ja-JP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E9CACFF-DCB4-4F1C-89B7-A6687196A5BF}" type="slidenum"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B15A231-EF26-427C-9852-A8986EE28828}" type="slidenum"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84EB-C399-4FCE-A1C2-96415FB99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89240"/>
            <a:ext cx="822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A641-4815-4A45-A63B-ACD2BE1DC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8924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8924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390E-A9D5-43CC-94B9-F0DF05C12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89240"/>
            <a:ext cx="264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89240"/>
            <a:ext cx="264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89240"/>
            <a:ext cx="264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8348-AB6F-4F5F-B485-A65C27A15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856B5-C7E4-4E86-9021-7F73F45D2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C6C1B-6EC8-416B-B0D3-95C1FB0A1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9870D-E0DE-47C0-B0B0-8313BF1F8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8AF92-C2C9-4602-922D-0987BF604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9F4FB-2058-4615-93CA-B5D0FBB56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476000" y="115920"/>
            <a:ext cx="75438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BC578-70B0-41A0-8BC6-6A14FD676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8924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45232-3949-468D-B5E4-B10E87EB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EA10-441A-4473-9D23-0F13C6774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8924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69BB9-1D8F-4A72-A08D-21B62A62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89240"/>
            <a:ext cx="822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0B2D2-2421-46E3-BFCA-028FB303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89240"/>
            <a:ext cx="822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8DCB9-6940-4948-8DBF-DA0C877DE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8924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8924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56F17-C7F8-4E11-AE1C-73DAD8E4D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89240"/>
            <a:ext cx="264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89240"/>
            <a:ext cx="264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89240"/>
            <a:ext cx="264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AFDA8-37A3-42AC-A18E-CCDF0C797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1FDC-2EA3-4E74-8E93-64179B03F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0715-F1BA-4C8D-A628-8F418428B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6C51-CCE3-4F0E-92D6-E42DD89FB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76000" y="115920"/>
            <a:ext cx="75438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514F-4D14-41AA-89EE-76B226018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8924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106A-F75E-4DFD-B5F0-4F7BC5F4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8924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0D2C-7CD6-4D7D-8453-D67D2DCE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89240"/>
            <a:ext cx="822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4148-74BE-48E8-A405-7EC75FE2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75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48000" y="630864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F2B7E-9760-46DC-B09E-C8D192D6B188}" type="slidenum">
              <a:rPr b="0" lang="ja-JP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34920" y="127080"/>
            <a:ext cx="1403280" cy="10699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403280" y="1052640"/>
            <a:ext cx="756144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75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38160">
            <a:solidFill>
              <a:srgbClr val="d8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4920" y="127080"/>
            <a:ext cx="1403280" cy="1069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blackducksoftware.com/android" TargetMode="External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source.android.com/porting/power_management.html" TargetMode="External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vents.linuxfoundation.org/events/embedded-linux-conference/" TargetMode="External"/><Relationship Id="rId2" Type="http://schemas.openxmlformats.org/officeDocument/2006/relationships/hyperlink" Target="http://elinux.org/ELC_2011_Presentations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vents.linuxfoundation.org/events/android-builders-summit/" TargetMode="External"/><Relationship Id="rId2" Type="http://schemas.openxmlformats.org/officeDocument/2006/relationships/hyperlink" Target="http://events.linuxfoundation.org/events/android-builders-summit/slides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1916280"/>
            <a:ext cx="8280360" cy="16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mbedded Linux Conference 2011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roid Builders Summit 2011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port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28680" y="3886200"/>
            <a:ext cx="6656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パナソニック株式会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加藤 慎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essio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Title : Snapshot Booting on Embedded Linux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Speaker : Kang Dongwook (ETRI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スワップテーブルに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napshot Imag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へのリンクを作っておき，スワップの仕組みを使って，組込みで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napsho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ブートを実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シャットダウン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使っていたメモリページを全て退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ブート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メモリをレストア、そしてジャン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MA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使って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NAN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読み込み時間を改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5.19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vs 23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秒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3.82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vs 22.98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秒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最新の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Snapshot Boot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では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Boot Loader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の時間が短縮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利用シー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シャットダウンの時間は延びる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(10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秒以上長くなる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フリーのメモリ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ページ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が十分足りる場合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半分以上フリーページが必要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NAND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のサイズが十分足りる場合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ではスナップショットが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200MB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を越え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essio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Title : Linaro : A Year of Chang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Speaker : David A Rusling (Linaro, CTO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Linaro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CTO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としての発表だが，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Speaker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ARM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Fellow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ここ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年で思ったこと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RM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搭載物は“典型的な”組込み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以外に移ってき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多様性は歓迎するが，フラグメンテーションは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Upstreaming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欠乏は非効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コラボレーションが欠けてい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RM Linux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向けに活動しているエンジニアが十分でな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なぜ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ARM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の組込み向け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は違いができてしまうのか？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ロダクトのタイムラインが短く，また最新のオープンソースに基づいていな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ロダクトが多岐にわたる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SoC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yst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Proprietary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な部分が価値になってい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Linaro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について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1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立上げ，コアエンジニアは約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RM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で使う上での共通な組込み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問題を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Upstream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で解決するべく，オープンに活動してい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Linaro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はどのように運営されているか？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メンバーによって技術課題を挙げて，ワークグループを立上げ，解決してい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今は，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oolchain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Kernel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にフォーカス．今後は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Graphics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PM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にもフォーカスす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oolchain W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対象：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RM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ｖ７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umb 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N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対象：コア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oolchai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cc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libc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inutils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essio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Title : Optimization for Cheap Flash Med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Speaker : Arnd Bergmann (IB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次の日に別テーマで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Keynote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を担当した人物．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Linaro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のメンバーでもあ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安い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を最大限に活用するために，という題目だが，内容は，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Wear Leveling 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とガベッジコレクションについてのレクチャ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一般的な</a:t>
            </a: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Wear Leveling</a:t>
            </a: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の話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ガベッジコレクションの話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リニアアクセス，ブロック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マッピング，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ata Log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essio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Arial"/>
              </a:rPr>
              <a:t>Title : RT-Preempt : What’s The State and Why There is No Roadma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Arial"/>
              </a:rPr>
              <a:t>Speaker : Thomas Gleixner (linutronix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27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著名な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Kernel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メンテナー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分野：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Real-Tim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27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RT-Preempt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の現状について，と，今後の展望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T-Preemp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の最新の安定版：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2.6.3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al-Tim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に関して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ainlin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に入っているも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ハイレゾタイマー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Mutex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の仕組み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一般的な割り込みハンドラの仕組み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ユーザスペース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Mutex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の優先度継承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Preemptible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な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RC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スレッド割り込みハンド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強制スレッド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irq/softi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トレースの仕組み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な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残っているも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Preemptible mmu gather (2.6.40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でのメインライン化を目指している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PerCUP modifica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Preemptible memory and page alloca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Soft-interrupt modifica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Sleeping spinlock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いつメインラインに入るか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2007,2008,2009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にそれぞれ「リアルタイムのパッチはほとんど，年の終わりにはマージされるだろう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(by Jonathan Corbet)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」といわれてきた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が，まだマージされていない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実際，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Redhat,IBM,OSADL,Linutronix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がテストに多大な努力もしてい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なぜロードマップがないのか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我々はパワーポイントは使わないか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我々は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Kernel Developer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だか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メインライン化の道を探しているところだか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だけど・・・ロードマップはあるよ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と言って，「会場の地図」を見せた。会場爆笑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最後に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us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の有名なセリフ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And yeah, I still think the hard-RT people are mostly crazy (by Linux - 2010)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」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essio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Title : High-Performance Computing using GP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Speaker : Mike Anderson (The PRT Grou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最近のトレン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プロセッサ：マルチコア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ビデオやゲーム：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3D, 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ストリーミン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マルチコアで性能向上するために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スレッド並列処理がより重要にな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データの並列処理はより考えられたものにする必要があ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GPU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搭載のモバイルデバイスが当たり前にな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のアプリケーションはすでに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GPU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対応が考えられてい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essio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Title : Integrating a Hardware Video Codec into Android Stagefright using OpenMAX I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Speaker : Damian Hobson Garcia (Igel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ndroid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tagefright media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Video/Audio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再生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録音の仕組み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ソフトウェアコーデック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としてデフォルトで搭載されてい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モバイルプラットフォームで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920x1080@30fp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のビデオ再生をした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tagefright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ソフトウェアコーデック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は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ハードウェアコーデック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H.264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tagefrigh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にどう入れるか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OpenMAX IL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を使う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(Bellagio OpenMAX I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実験環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Renesas SH (ARM Cortex-A8 @ 800M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実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OpenMAX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/src/base/omx_base_*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を流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ソースは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frameworks/base/media/libstagefright/OMXCodec.cpp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み修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libstagefrighthw.so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作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quirk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というものも利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essio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Title : How to Power Tune a Device Running on a Linux Kernel for Better Suspend Battery Lif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Speaker : Mark Gross (Intel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内容は，省電力のレクチャ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まずは形式的に検討部分を分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重要でない部分は検討から除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pec Sheets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，ドライバのソースコード，データバス，な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O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を知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クロックとパワーコントロールを知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プラットフォームの状態を知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アプロー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まずはデバイス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ハードウェア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毎に消費電力の初期値を測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その次に省電力パッチやデバドラの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Updat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等を実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省電力モードになっていないハードウェアを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ickU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して，省電力モードに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essio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Title : Runtime PM, Upstream I/O Device Power Managem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Speaker : Magnus Damm (Runesa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省電力はより重要になってきているが，伝統的な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Power Management(PM)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は組込みシステムには完全には適さない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なぜか？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でのユースケース向けに設計されているか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組込みベンダーからのコミュニティへのフィードバックが少ないか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組込みベンダーは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PM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を“ソース非公開”として扱うか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System-Wide P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RAM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Disk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を使った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uspend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があるが，全く違うも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uspend-to-Di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システム全体の電力断が可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uspend-to-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起動は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spend-to-Disk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より早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デバイスにより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akeup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に対応しているかがまちま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lnSpc>
                <a:spcPct val="80000"/>
              </a:lnSpc>
              <a:spcBef>
                <a:spcPts val="300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ハードが対応していても，ソフトが未対応，な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ソフトでの問題であれば，対応させ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CPU Runtime P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Idl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ループによって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PU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コアの電力を管理す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ickless CMT Ti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I/O Device Runtime P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include/linux/pm_runtime.h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関数を使って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Runtime PM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を実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essio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Title : MeeGo B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Speaker : Alison Chaiken (Noki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MeeGo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について何でも語ろう，という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初めに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Speaker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MeeGo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のトピック説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6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2011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年の予定：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月に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リリース，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月に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1.3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リリー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6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MeeGo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Linaro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Android 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つの比較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essio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Title : Android for Servers 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Speaker : John Stultz(IBM/Linaro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技術でサーバにも活用できるものがあるか？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技術とは，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Linux Kernel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と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用の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用の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Patch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を下記に分類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バグフィックス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新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HW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対応 関係：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Pmem, GPIO Drivers, ARM, MMC, Bluetooth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な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Power Management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関係：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Early suspend, Wakelocks, Alarm Ti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エラーレポート関係：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Logger, Ram_console, Apan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セキュリティ関係：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Paranoid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パフォーマンス関係：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ashmem, binder, LowMemoryKiller, Yaffs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いつ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Kernel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メインラインにマージされるのか？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不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LKML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で議論が活発なもの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Wakelocks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Binder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LowMemoryKiller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Alarm Ti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サーバに役立ちそうな技術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LowMemoryKiller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は，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OOM Killer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が動く前にアプリを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Kill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するので，サーバにも使え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Wakelocks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仕組みは省電力に効果があ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ARM, MMC, Bluetooth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などのバグフィック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330066"/>
                </a:solidFill>
                <a:latin typeface="Arial"/>
              </a:rPr>
              <a:t>目次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Embedded Linux Conference (ELC) 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Android Builders Summit (ABS) 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ELC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Keynote Re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Session Re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Demo/Showcase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ELC Closing Se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ABS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Keynote Re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Session Re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その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essio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Title : Hot Multi-OS Switch: How to run Ubuntu, ChromiumOS, Android at the Same Time on an Embedded Devi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Speaker : Gregoire Gentil (Always Innovating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マルチ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をマルチディスプレイで実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利点：ひとつのキーボード・マウスで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PF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をそれぞれ操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ひとつのビデオコンテンツを，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PF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上でそれぞれ再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背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Kernel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なのに，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Userspac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はいろいろある．では，一つの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Kernel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でさまざまな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Userspac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を同時に動作させられないか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Beagleboard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を使ってマルチ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を実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hroot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を利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課題を解決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課題：コア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選定，出力制御，入力制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デモ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デモでは，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Ubuntu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ChromiumOS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，独自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Distribution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，の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つ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hroot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つのディストリビューションを起動し，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つのディスプレイにそれぞれの画面を出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ウスはそれぞれのディスプレイにカーソルがある状態で，マウスを動かすとそれぞれの画面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ディストリビューション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でマウスカーソルが動き，キーボードをタイプすると全ての画面で入力されてしま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例：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Ubuntu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でコマンドライン入力をしていたら，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romeOS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では検索している，と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ディスプレイ出力には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USB-&gt;HDMI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変換デバイスを利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出力・入力制御により，マウスカーソルを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つの環境で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つにして，カーソルをディスプレイ間を移動可能に．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つの環境のうち一つだけに入力制御するように変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同じ再生コンテンツを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PF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上でそれぞれ再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essio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Title : Moving Forward : Overcoming Compatibility Issues BoF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Speaker : Yoshitake Kobayashi (Toshiba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長期スパンのシステムでのハードウェア変更時の課題について議論する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BoF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Speaker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の投げかけ，その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長期スパンシステムにおいて，ハードウェアを新しくせざるをえなくなった場合に，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Kernel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と上位層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ライブラリ，アプリ，テストケース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担保をどうするか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新しいハードウェアのドライバを古い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rnel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にバックポートする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新しいハードウェア上で動作する最新の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rnel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を使う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正解は，ハードウェアの特徴やユーザの要求次第であるが，この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BoF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では「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Kernel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VersionUp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はできない」ユースケースを考え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Speaker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の投げかけ，その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ハードウェアが変わった場合，何かしら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Kernel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変更は必要になる．その場合のシステム全体の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それまでとの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互換性はどう確認する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会場の意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当時のハードウェアを在庫として持っておくしかな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システム自体の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Kernel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を定期的に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Updat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していくべきだ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by IBM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人で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Keynot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も担当した人物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この意見に対しては他数人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「そもそもそれができないシステムでどうするか？を話し合う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oF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だ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「理想は分かるが，実際に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rnel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Updat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できないシステムは存在する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などの意見あ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emo/Showcas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900" spc="-1" strike="noStrike">
                <a:solidFill>
                  <a:srgbClr val="000000"/>
                </a:solidFill>
                <a:latin typeface="Arial"/>
              </a:rPr>
              <a:t>Yocto Projec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oct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でビルドしたシステムでオーディオ再生，というデ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900" spc="-1" strike="noStrike">
                <a:solidFill>
                  <a:srgbClr val="000000"/>
                </a:solidFill>
                <a:latin typeface="Arial"/>
              </a:rPr>
              <a:t>Sony</a:t>
            </a:r>
            <a:r>
              <a:rPr b="0" lang="ja-JP" sz="29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900" spc="-1" strike="noStrike">
                <a:solidFill>
                  <a:srgbClr val="000000"/>
                </a:solidFill>
                <a:latin typeface="Arial"/>
              </a:rPr>
              <a:t>Google-TV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Froy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ベース．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.6.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900" spc="-1" strike="noStrike">
                <a:solidFill>
                  <a:srgbClr val="000000"/>
                </a:solidFill>
                <a:latin typeface="Arial"/>
              </a:rPr>
              <a:t>KernelShark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Ftr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トレース結果をビジュアル表示するツール．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PU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毎のプロセス占有状態などを表示可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LC Closing Session (1/4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事前に参加者にアンケートをとっており，その結果を使ってのイベント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アンケー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2011/04/06 4:44:45 +0900 </a:t>
            </a: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の </a:t>
            </a: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Tim </a:t>
            </a: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からのメール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[Members] Help needed for ELC - please take 10-minute surve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壇上で，クイズ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人に聞きました，形式のクイ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全員参加で，いくつかのクイズの回答を事前に書き，その後に答えごとに得点を発表＆答え合わせ．総得点上位者から景品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Get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位は</a:t>
            </a: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Sony</a:t>
            </a: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Google-TV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位は</a:t>
            </a: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Sony</a:t>
            </a: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Google-TV-ST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以下，</a:t>
            </a: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LWN.net</a:t>
            </a: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の年間購読権や</a:t>
            </a: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O’Reilly</a:t>
            </a: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の本，など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330066"/>
                </a:solidFill>
                <a:latin typeface="Arial"/>
              </a:rPr>
              <a:t>目次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808080"/>
                </a:solidFill>
                <a:latin typeface="Arial"/>
              </a:rPr>
              <a:t>Embedded Linux Conference (ELC) </a:t>
            </a:r>
            <a:r>
              <a:rPr b="0" lang="ja-JP" sz="3000" spc="-1" strike="noStrike">
                <a:solidFill>
                  <a:srgbClr val="808080"/>
                </a:solidFill>
                <a:latin typeface="Arial"/>
              </a:rPr>
              <a:t>概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808080"/>
                </a:solidFill>
                <a:latin typeface="Arial"/>
              </a:rPr>
              <a:t>Android Builders Summit (ABS) </a:t>
            </a:r>
            <a:r>
              <a:rPr b="0" lang="ja-JP" sz="3000" spc="-1" strike="noStrike">
                <a:solidFill>
                  <a:srgbClr val="808080"/>
                </a:solidFill>
                <a:latin typeface="Arial"/>
              </a:rPr>
              <a:t>概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808080"/>
                </a:solidFill>
                <a:latin typeface="Arial"/>
              </a:rPr>
              <a:t>ELC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808080"/>
                </a:solidFill>
                <a:latin typeface="Arial"/>
              </a:rPr>
              <a:t>Keynote Re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808080"/>
                </a:solidFill>
                <a:latin typeface="Arial"/>
              </a:rPr>
              <a:t>Session Re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808080"/>
                </a:solidFill>
                <a:latin typeface="Arial"/>
              </a:rPr>
              <a:t>Demo/Showcase</a:t>
            </a:r>
            <a:r>
              <a:rPr b="0" lang="ja-JP" sz="2600" spc="-1" strike="noStrike">
                <a:solidFill>
                  <a:srgbClr val="808080"/>
                </a:solidFill>
                <a:latin typeface="Arial"/>
              </a:rPr>
              <a:t>，</a:t>
            </a:r>
            <a:r>
              <a:rPr b="0" lang="ja-JP" sz="2600" spc="-1" strike="noStrike">
                <a:solidFill>
                  <a:srgbClr val="808080"/>
                </a:solidFill>
                <a:latin typeface="Arial"/>
              </a:rPr>
              <a:t>ELC Closing Se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ABS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Keynote Re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Session Re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その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Keynot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Title : Motorola Innovation Ris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Speaker : Christy Wyatt (Motorola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について，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otorola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商品と照らしながらこれまでの流れについて講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なぜ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か？ 下記がそろっているか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90000"/>
              </a:lnSpc>
              <a:spcBef>
                <a:spcPts val="4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Internet Rich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calability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Industry Platform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Ecosystem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Open Innov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シェ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90000"/>
              </a:lnSpc>
              <a:spcBef>
                <a:spcPts val="4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Apple iOS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は越え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otorola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搭載商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90000"/>
              </a:lnSpc>
              <a:spcBef>
                <a:spcPts val="4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モデル，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98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カ国で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705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リリー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90000"/>
              </a:lnSpc>
              <a:spcBef>
                <a:spcPts val="4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次は，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MotorolaXoom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MotorolaATRIX 4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90000"/>
              </a:lnSpc>
              <a:spcBef>
                <a:spcPts val="4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Froyo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がリリースされたときに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Motorola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対応速度は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HTC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と並び最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アプリケーションは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月は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万だったのが、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2011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月では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万に迫る勢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Keynot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Arial"/>
              </a:rPr>
              <a:t>Title : From the Alliance to the Evolution : The History and Future of Android Innov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Arial"/>
              </a:rPr>
              <a:t>Speaker : Mark Charlebois (Qualcomm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27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Qualcomm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の歴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Qualcom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OH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ounding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メンバ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初の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端末は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Qualcom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Chipset (1.0 HTC -Oct 22, 200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初の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1Gz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端末は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Qualcom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Chipset (Nexus One -Jan 5, 201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初の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搭載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端末は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Qualcom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Chipset (HTC Thunderbolt -Mar 17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27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のリリースサイクル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Cupcak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9.7 Month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onu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9.1 Month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Eclai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7.9 Month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royo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6.7 Mon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27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Qualcomm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Chips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Chipset(7x00, 7x25, 7x27, 7x30/8x55, 8x50,8650A, 8x60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向けに用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27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今後につい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lephony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の機能発展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LTE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eHRPD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ｒ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のような技術に対応するフレームワーク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Dual SIM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Dual Standby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に対応するフレームワーク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(Nov 201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SIM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ツールキッ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CSIM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サポー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IPv6 for CDMA/EVD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マルチメディアの機能発展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QCELP/EVRC encode/decode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voice memo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LPA (low power audio)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FM Radio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WVGA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720p encode/decode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1080p encode/deco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その他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マルチコアサポート．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Trackball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のないデバイスのサポート，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PM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Web Core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WebGL in Gingerbread, Enhanced Webkit and V8)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，商用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DR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bile Web Ap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P2P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アプリケーション は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AllJoyn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Augmented Reality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は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QDevN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Code Aurora Forum (CAF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につい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QulC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Founding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メンバ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全ての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upstream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への貢献は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CAF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を通してやってい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現在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Nativ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アプリと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アプリには違いがあるが，共通部分が増えてい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ひとつはマルチコアによる恩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330066"/>
                </a:solidFill>
                <a:latin typeface="Arial"/>
              </a:rPr>
              <a:t>目次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Embedded Linux Conference (ELC) 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Android Builders Summit (ABS) 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808080"/>
                </a:solidFill>
                <a:latin typeface="Arial"/>
              </a:rPr>
              <a:t>ELC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808080"/>
                </a:solidFill>
                <a:latin typeface="Arial"/>
              </a:rPr>
              <a:t>Keynote Re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808080"/>
                </a:solidFill>
                <a:latin typeface="Arial"/>
              </a:rPr>
              <a:t>Session Re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808080"/>
                </a:solidFill>
                <a:latin typeface="Arial"/>
              </a:rPr>
              <a:t>Demo/Showcase</a:t>
            </a:r>
            <a:r>
              <a:rPr b="0" lang="ja-JP" sz="2600" spc="-1" strike="noStrike">
                <a:solidFill>
                  <a:srgbClr val="808080"/>
                </a:solidFill>
                <a:latin typeface="Arial"/>
              </a:rPr>
              <a:t>，</a:t>
            </a:r>
            <a:r>
              <a:rPr b="0" lang="ja-JP" sz="2600" spc="-1" strike="noStrike">
                <a:solidFill>
                  <a:srgbClr val="808080"/>
                </a:solidFill>
                <a:latin typeface="Arial"/>
              </a:rPr>
              <a:t>ELC Closing Se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808080"/>
                </a:solidFill>
                <a:latin typeface="Arial"/>
              </a:rPr>
              <a:t>ABS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808080"/>
                </a:solidFill>
                <a:latin typeface="Arial"/>
              </a:rPr>
              <a:t>Keynote Re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808080"/>
                </a:solidFill>
                <a:latin typeface="Arial"/>
              </a:rPr>
              <a:t>Session Re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808080"/>
                </a:solidFill>
                <a:latin typeface="Arial"/>
              </a:rPr>
              <a:t>その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Keynot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Title : Open API Standards as a Foundation for Android Innov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Speaker : Neil Trevett (NVIDIA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グラフィック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これまでと今後の進化につい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Khronos Family of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COLLADA, WebGL, WebC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OpenGL, OpenGL/ES, EGL, OpenMAX/AL, OpenSL/ES, OpenV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OpenMAX/I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Khrono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はオープンでロイヤリティフリ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いくつ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ickUp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して説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WebGL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は，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上での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をプラグインなしで可能にす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OpenSL/ES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Advanced Audio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に，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OpenMAX/AL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はマルチメディアに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デバイスプラットフォームによ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Chrome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Symbian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MeeGo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，などは 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OpenGL/ES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OpenMAX/IL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EG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Apple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は 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OpenGL/ES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OpenG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は 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OpenGL/ES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OpenMAX/IL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EGL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OpenSL/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EGRA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宣伝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ゲームシーンで特に威力を発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Keynot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Title : Porting Android to New Hardw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Speaker : Karim Yaghmour (Opersys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O’Reilly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の「組込み 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Linux System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」本の著者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ハードウェアへのポーティングと，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についてのレクチャー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ハードウェアにポーティングする際の，変更ポイントをダイジェストで紹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レクチャーの章立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67680" indent="-28764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Components to 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7680" indent="-28764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Cross-development toolch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7680" indent="-28764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Porting the Linux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7680" indent="-28764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eveloping device dri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7680" indent="-28764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Getting the AO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7680" indent="-28764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Implementing Android hardware li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7680" indent="-28764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Customizing the user-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7680" indent="-28764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Building the AO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7680" indent="-28764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Components to write to fla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7680" indent="-28764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Useful Embedded Linux tri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メモ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技術的に中身のある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Keynot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時間が限られている中で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の技術要素を全て網羅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プレゼン資料が公開されているので詳細はそちらを参照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Keynot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Title : Beyond The Phon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Speaker : Marko Gargenta (Marakara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電話以外のデバイスを例に挙げながら，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の要素技術についてのレクチャー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は電話を超えるか？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Car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，セットトップボックス，などな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UI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を使っていろんなデバイスが考えられ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複合プリンタの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なぜ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？ 下記のものがあるか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34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アプリ開発のフレームワーク，タッチスクリーン，グラフィックス，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WiF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足りないものは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34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カスタムドライバ，カスタムライブラリ，アプリフレームワークのサポート，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New Home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アプ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足りないものを補えば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ベースの複合プリンタにでき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TV Box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足りないものは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34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V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用の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UI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，ストリーム関係と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D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はオープンだから，自分でいろいろと追加すれば，いろんなデバイスに搭載可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essio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itle : AllJoyn and the New Era of Peer-to-Peer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peaker : Greg Burns (Qualcomm(QulC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AllJoyn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とは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QulC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が開発した，新しいモバイル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Peer-to-Peer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をベースにした近接関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AllJoyn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はソフトウェア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bu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90000"/>
              </a:lnSpc>
              <a:spcBef>
                <a:spcPts val="4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それぞれのデバイスでは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bus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デーモンが起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90000"/>
              </a:lnSpc>
              <a:spcBef>
                <a:spcPts val="4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アプリ間通信はデーモンで直接接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90000"/>
              </a:lnSpc>
              <a:spcBef>
                <a:spcPts val="4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それぞれのデバイスのデーモンは，他のデバイスのデーモンと通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bus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のフォーメーションはアドホック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プロトコル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90000"/>
              </a:lnSpc>
              <a:spcBef>
                <a:spcPts val="4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Bus wire-protocol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WiFi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Bluetooth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もサポー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メ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コンセプト提案のようなコマーシャル映像も流していた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人が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様のデバイス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スマートフォン，タブレット，携帯ゲーム機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でそれぞれが繋がって仮想空間でゲームをしている．スマートフォンのユーザに着信があり数十分電話→終了後，また仮想空間に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Join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．というような映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essio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Title : Android Interna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Speaker : Karim Yaghmour (Opersy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O’Reilly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の「組込み 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Linux System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」本の著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の中身を以下の分類で，それぞれレクチャ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ndroid Concep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Overall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ystem start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Linux Ker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Hardware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Native User-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Dalvi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ystem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ctivity 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Bin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tock AOSP Ap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Hac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メモ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あくまで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Session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であるが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Keynote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並の参加者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プレゼン資料が公開されているので詳細はそちらを参照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essio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Title : Managing Android and the Complexity ins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Speaker : Peter Vescuso (Black Duck Software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2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Arial"/>
              </a:rPr>
              <a:t>OSS</a:t>
            </a:r>
            <a:r>
              <a:rPr b="0" lang="ja-JP" sz="1300" spc="-1" strike="noStrike">
                <a:solidFill>
                  <a:srgbClr val="000000"/>
                </a:solidFill>
                <a:latin typeface="Arial"/>
              </a:rPr>
              <a:t>ライセンスの話</a:t>
            </a:r>
            <a:r>
              <a:rPr b="0" lang="ja-JP" sz="1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300" spc="-1" strike="noStrike">
                <a:solidFill>
                  <a:srgbClr val="000000"/>
                </a:solidFill>
                <a:latin typeface="Arial"/>
              </a:rPr>
              <a:t>特にモバイル分野</a:t>
            </a:r>
            <a:r>
              <a:rPr b="0" lang="ja-JP" sz="1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2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Arial"/>
              </a:rPr>
              <a:t>OSS</a:t>
            </a:r>
            <a:r>
              <a:rPr b="0" lang="ja-JP" sz="1300" spc="-1" strike="noStrike">
                <a:solidFill>
                  <a:srgbClr val="000000"/>
                </a:solidFill>
                <a:latin typeface="Arial"/>
              </a:rPr>
              <a:t>はイノベーションをもたらしている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380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プロジェクトある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201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現在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ここ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年で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倍になっ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94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が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obile Phone (Android/iPhone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向けの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SS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プロジェク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2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300" spc="-1" strike="noStrike">
                <a:solidFill>
                  <a:srgbClr val="000000"/>
                </a:solidFill>
                <a:latin typeface="Arial"/>
              </a:rPr>
              <a:t>でのコンプライアンスが検討事項になりつつある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opylef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型のライセンスと，そうでないものを分けて考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潜在的にはライセンスコンフリクトが起こりう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4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GPLv3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pach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のコンフリクトは解決し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潜在的にはパテントの問題もあ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2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Arial"/>
              </a:rPr>
              <a:t>アプリケーションマーケットとライセンス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ppl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Tunes Stor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では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PL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アプリは頒布できな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マーケットではそのような制限はな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2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Arial"/>
              </a:rPr>
              <a:t>変化の早いオープンソースで様々なライセンスをどう管理するか？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例えば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r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4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ux Kernel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GPLv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4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約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165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の異なるコンポーネント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Kernel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ミラーは含まない．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165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のうち約半分は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Exter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4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約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種の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OSS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ライセン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4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相対するライセンスや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OSI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非認証のライセン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4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早い変化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約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ヶ月でのメジャーバージョンアップ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トレーニング・ツール・プロセスを使って管理するのが良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2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lack Duck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HP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に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hitePaper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などを掲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www.blackducksoftware.com/andr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essio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Title : Using the Debian Package Manager to Assemble Android-Based Mobile Phone Software Syste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Speaker : Magnus Back (Sony Ericsson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Debian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のパッケージ管理システムを用いて，ビルドシステムは一つにしてコンフィグの動的設定で，対象顧客用のソフトウェアをビルドする仕組み，につい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これまで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ony Ericsoon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150~200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顧客に携帯を出しているが，顧客によりスペック・詳細要件があり，古い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Proprietary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なソフトウェアでは，それぞれ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なコンフィグで解決してい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34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ロダクト毎に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onfig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ロダクト＝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45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onfi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34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45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onfig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ごとに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.5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時間のビルド時間＝ビルド時間で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ヶ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Androi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携帯を出すために，顧客それぞれのビルドシステムが必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全ての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Config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はそれぞれのプラットフォームに紐付けされ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アプリ開発者にとっては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Android-PF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は大きすぎ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prebuilt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コンポーネントを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Reus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する良い方法がな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理想としては，ビルドシステムは一つにして，コンフィグを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動的に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設定するだけで，対象顧客用のソフトウェアをビルドするような仕組み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ebian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パッケージ管理システムを用いて，実現できないか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ebian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パッケージを異なるビルドシステム間のインタフェースファイル結果のプロトコルに使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essio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12480" y="1196640"/>
            <a:ext cx="8507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Title : Trying to improve Android Boot Time With Readahea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Speaker : Tim Bird (Sony America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2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ony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GoogleTV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を出している．ブート時間短縮が必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現状，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Cold Boot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で約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秒かかる．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Suspend/Resume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機能もあるがスタンバイの電力消費があ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2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の一般的なブート時間をまずは測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どうやって計測したか？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0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Bootchart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に追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いくつか非効率な部分を発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0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主には，パッケージスキャンとファイルアクセスルーチンの時間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2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adahead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を使ってみ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Readahead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を使う理由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0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CPU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ではなく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がボトルネックになっているか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lnSpc>
                <a:spcPct val="80000"/>
              </a:lnSpc>
              <a:spcBef>
                <a:spcPts val="20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Class preloading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，と，パッケージスキャン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lnSpc>
                <a:spcPct val="80000"/>
              </a:lnSpc>
              <a:spcBef>
                <a:spcPts val="20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パッケージスキャンはシステム全体の起動時間の１０％を占めてい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0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アプリを変更しなくて良いから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私は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Kernel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開発者だから．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は詳しくない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0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他のプロダクトにも応用できるかもしれない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Readahead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の概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0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ブート中に要求される前に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Read Data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のページキャッシュに読み込んでおく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(I/O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の待ち時間削減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0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読み込みは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CPU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の空き時間に実施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0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注：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する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Total Data 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及び 使える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CPU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サイクルの全体数は今回変えていない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lnSpc>
                <a:spcPct val="80000"/>
              </a:lnSpc>
              <a:spcBef>
                <a:spcPts val="20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ゴールは，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の待ち時間をなくすこと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0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より良い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スケジューリングもなされ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Readahead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するデータの決定方法が必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0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Minicore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Strace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というソフトウェアを使った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2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テスト環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Sony Internet TV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Kernel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2.6.23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，スケジューラーは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CF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2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ポイ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Readahead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がバックグラウンドで動いているか？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Class preloading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，と，パッケージスキャンの時間が短縮されているか？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2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結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Readahead in background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で 約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1.83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秒短縮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(4.65%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の改善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noop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スケジューラはほとんど影響しない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プロセス優先度の変更は影響しない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essio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Title : A Walk Through the Anrdoid Stack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Speaker : Aleksander “Sasa” Gargenta (Marakana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の要素技術について，具体的にソースコード上の場所まで示しながらレクチャー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Linux Distribution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との違い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glibc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がない．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X11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がない．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/etc/passwd, /etc/fstab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などがな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あるのは，ドライバモデルなど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Low Level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層，プロセス・メモリ管理，共有ライブラリ，ネットワークスタッ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Binder IP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Exposed via /dev/bi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Runtime info at /proc/misc/bi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実装は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rivers/misc/binder.c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と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include/linux/binder.h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を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Ashme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プログラムは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/dev/ashmem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Open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して，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mmap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を使って，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Binder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経由でファイルを共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実装は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mm/ashmem.c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と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include/linux/ashmem.h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を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Pme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実装は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rivers/misc/pmem.c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と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include/linux/android_pmem.h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を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Wakelock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実装は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rivers/android/power.c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と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include/linux/wakelock.h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を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source.android.com/porting/power_management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ession (cont.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Title : A Walk Through the Anrdoid Stack 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の続き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Alar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実装は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drivers/rtc/alarm.c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と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include/linux/android_alarm.h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を参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Low Memory Kill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実装は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drivers/misc/lowmemorykiller.c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と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curity/lowmem.c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を参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優先度については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sys/module/lowmemorykiller/parameters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Bioni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BSD libc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からの変更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rbitrary Android system-properties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サポー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roid Kernel Logger Driver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サポー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roid-specific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な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user/group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管理のサポー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roid-specific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な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etservent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サポー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/etc/protocol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は未サポー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HAL (User-space Hardware Abstraction Layer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Native Daem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system/bin/servicemanager, /system/bin/vo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Surface Flinger, Audio Fling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Function Librar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LibWebCore/Webkit, V8, SQLite, OpenSSL, FreeType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Dalvi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Activity Manager Service, Connectivity Manager Service, Additional Manager Servic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などなど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ELC </a:t>
            </a:r>
            <a:r>
              <a:rPr b="1" lang="zh-CN" sz="3500" spc="-1" strike="noStrike">
                <a:solidFill>
                  <a:srgbClr val="330066"/>
                </a:solidFill>
                <a:latin typeface="Arial"/>
              </a:rPr>
              <a:t>概要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ELC (Embedded Linux Conference 2011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とは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組込み系の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技術についての国際技術会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主催は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he Linux Foundation (L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昨年度まで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CE Linux Forum (CELF)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だったが，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2010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年に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CELF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LF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が合併し，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CELF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LF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Workgroup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となっ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著名な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Kerne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メンテナーや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技術者をはじめ，世界の組込みメーカー系企業の技術者が多数参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ELC 2011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日時：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水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場所：サンフランシス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参加費：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475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ドル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早期割引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-5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ドル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参加者：約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35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名で非常に盛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昨年より約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名増加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年前からでは約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170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名増加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日本からは若干名の参加，今年度は韓国系企業の参加者増が目立っ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ession: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約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件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Sessio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会場で同時開催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詳細サイト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events.linuxfoundation.org/events/embedded-linux-conferen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http://elinux.org/ELC_2011_Presen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essio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Title : Android System Programming Tips and Tric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Speaker : Tim Bird (Sony Americ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のいろんな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Tips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紹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Gig, Repo, Build syste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Fast build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ake -j6 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マルチコア＋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がよい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export USE_CCACHE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Fastboot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AD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Trace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Debug 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ツール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dmes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Logca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trac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Bootchar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DDM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g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Performance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ツール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mem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raceview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0xbe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メ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プレゼン資料が公開されているので詳細はそちらを参照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500" spc="-1" strike="noStrike">
                <a:solidFill>
                  <a:srgbClr val="330066"/>
                </a:solidFill>
                <a:latin typeface="Arial"/>
              </a:rPr>
              <a:t>ABS </a:t>
            </a:r>
            <a:r>
              <a:rPr b="1" lang="ja-JP" sz="3500" spc="-1" strike="noStrike">
                <a:solidFill>
                  <a:srgbClr val="330066"/>
                </a:solidFill>
                <a:latin typeface="Arial"/>
              </a:rPr>
              <a:t>概要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ABS (Android Builders Summit)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とは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の実装・搭載に注目した国際技術会議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アプリケーションにはフォーカスしていない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．今回が第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回目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主催は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The Linux Foundation (LF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ABS 2011 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日時：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水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)PM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木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13(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水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ELC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と共催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場所：サンフランシス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参加費：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275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ドル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(ELC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との同時申込みの場合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ドル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参加者：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ELC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と共催日約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名，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ABS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単独日約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Session: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約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件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(Session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会場で同時開催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詳細サイト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events.linuxfoundation.org/events/android-builders-summit/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http://events.linuxfoundation.org/events/android-builders-summit/slid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330066"/>
                </a:solidFill>
                <a:latin typeface="Arial"/>
              </a:rPr>
              <a:t>目次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808080"/>
                </a:solidFill>
                <a:latin typeface="Arial"/>
              </a:rPr>
              <a:t>Embedded Linux Conference (ELC) </a:t>
            </a:r>
            <a:r>
              <a:rPr b="0" lang="ja-JP" sz="3000" spc="-1" strike="noStrike">
                <a:solidFill>
                  <a:srgbClr val="808080"/>
                </a:solidFill>
                <a:latin typeface="Arial"/>
              </a:rPr>
              <a:t>概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808080"/>
                </a:solidFill>
                <a:latin typeface="Arial"/>
              </a:rPr>
              <a:t>Android Builders Summit (ABS) </a:t>
            </a:r>
            <a:r>
              <a:rPr b="0" lang="ja-JP" sz="3000" spc="-1" strike="noStrike">
                <a:solidFill>
                  <a:srgbClr val="808080"/>
                </a:solidFill>
                <a:latin typeface="Arial"/>
              </a:rPr>
              <a:t>概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ELC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Keynote Re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Session Re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Demo/Showcase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ELC Closing Se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808080"/>
                </a:solidFill>
                <a:latin typeface="Arial"/>
              </a:rPr>
              <a:t>ABS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808080"/>
                </a:solidFill>
                <a:latin typeface="Arial"/>
              </a:rPr>
              <a:t>Keynote Re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808080"/>
                </a:solidFill>
                <a:latin typeface="Arial"/>
              </a:rPr>
              <a:t>Session Re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808080"/>
                </a:solidFill>
                <a:latin typeface="Arial"/>
              </a:rPr>
              <a:t>その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Keynot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Title : The Yocto Proj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Speaker : Dirk Hohndel (Inte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Yocto Project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の概要講演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スライド等はなく，口頭のみでの 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Yocto Project 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の概要の講演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6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Yocto Project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Distribution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ではない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6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様々なハードウェア環境で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Distribution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を作るための，テンプレートや基盤，ツールを提供す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6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月に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Version 1.0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をリリースし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Keynote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Title : Becoming Part of the Linux Kernel Commun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Speaker : Arnd Bergmann (IBM, Linar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次の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Linux Kernel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での注目パートについての「思い」をレクチャ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PC/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サーバ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/(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純粋な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組込み，以外の分野での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利用の増加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e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Free 3D 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グラフィックスの流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ドライバのオープン化の流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メ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要は「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Linux Kernel Mainline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にコミットしよう」というこ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特にグラフィック関係のドライバのオープン化の話が最近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ot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になってきてい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essio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Title : Identifying Embedded Real-Time Latency Issues: I-Cache and Lock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Speaker : Frank Rowand (Sony America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Real-Time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系の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Session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関係の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Conference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で毎年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2,3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回発表している人物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SMP ARM 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での，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I-Cache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のミスヒットによる性能劣化についての検討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はじめに最大割り込み禁止時間を測定したところ，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do_local_timer()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が最大割り込み禁止時間を作っている一つの要因とわかっ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使用ツ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trace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rqsoff tracer (latency-format option enabl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do_local_timer()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について，ミスヒットとストール時間をみて検討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検討に使用している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Kernel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.6.23.17-rt1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.6.29.6-rt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本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Session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では課題抽出が目的で，改善はフォーカス外．ただし思いつく改善案を提示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I-Cach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増やして，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I-Cach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ミスを減らす．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実際のテストはしていない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クリティカルなコードを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I-Cache)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ロックして，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I-Cach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ミスを減らす．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ただ今回のターゲットボードは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I-Cach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ロックに対応していない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クリティカルなコードを高速なメモリに配置して，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I-Cach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ミス時のコストを減らす．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ただ今回のターゲットボードは高速なメモリを実装していない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L2-Cach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を追加して，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I-Cach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ミス時のコストを減らす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ハードを変更して，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L2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の有無での検討実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ほとんどの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L1 I-Cach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ミスは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L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から補填される．ただし，一部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L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からも補填されない時がある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1T04:25:47Z</dcterms:created>
  <dc:creator/>
  <dc:description/>
  <dc:language>en-US</dc:language>
  <cp:lastModifiedBy>Shinsuke Kato</cp:lastModifiedBy>
  <dcterms:modified xsi:type="dcterms:W3CDTF">2011-05-20T03:47:58Z</dcterms:modified>
  <cp:revision>151</cp:revision>
  <dc:subject/>
  <dc:title>Embedded Linux Conference 2011 Android Builders Summit 2011 Report</dc:title>
</cp:coreProperties>
</file>